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E2D-FB09-4889-B2D3-A65F07BA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D34-DC02-4063-BC03-72100F18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CEC-8C76-490E-B8D4-55DC48B6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95C6-66F9-4BD5-A08C-5CA3FDA7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5B55-45BD-4D64-834D-3D19F7BD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C87F-CA86-4A9F-B5D6-62B68D0E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458A-43BE-489E-AFEA-24496E05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F208-181C-442F-A360-733BE885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434C-C64A-4AEB-934B-D07966BD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689A-046B-4FA3-83A8-38C495E7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D185-7340-4F48-9602-B3E02031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1E0-1D3D-4A71-9924-A8B8FDD6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3A71-6181-461D-8451-01944D24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A645-D708-4845-87E1-8EB70CFD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A6B4-8374-4EEA-ADE5-221478B9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258A-0947-4FD5-A159-6D5952EA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533F-B078-4471-8758-5EA0907D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59C-64AF-4BEB-BE52-1C615AA6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886-8F66-43C5-B601-E00FEB76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7A1-1FE2-46E7-9D44-69A098EF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369-B519-4279-9ABA-26FB142C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D5D-A998-4425-BB08-47A21A7B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2E6-35F0-4A29-938A-003B0460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829-83E9-4030-AB2F-8DEE5405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878E-C91B-419F-B6F1-0D9FE2794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95C7-45C1-435B-9946-C94BB5CD9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pearsonsuccessnet.com/snpapp/learn/navigateIDP.do?method=productSelect&amp;currProd=0-13-361474-3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0p1ztrbXPY&amp;feature=player_embedded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youtube.com/watch?v=STzOiRqzzL4" TargetMode="Externa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iffusion &amp; Osmosi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ing to achieve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 you solve the problem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Textbook Myster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entration Gradi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005000" cy="4876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029200" y="1600200"/>
            <a:ext cx="358128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qual amounts or at equilibr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higher amount of water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ower amount of water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153280" cy="6219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124080" y="0"/>
            <a:ext cx="5715000" cy="66294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ssive Transport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ve” – lacks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ell membrane is naturally semi-perm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Lets see it in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kinds of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 or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lecules mo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ree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ross the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cilitated Diffus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 of large molecules across the membrane with the help of membrane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aporin…water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quires NO energy from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cules move along a concentration grad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from an area of greater concentration to less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The movement of gluco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usion of water through a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n by immovable solute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solute = low water co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solute = high water co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e cannot move acr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moves to balance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7925040" cy="41162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8580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5334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47920" y="4343400"/>
            <a:ext cx="7596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2971440" y="434304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3059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ation across the membrane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quires the use of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s molecules from an area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w concentrat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 high concentration ar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ar transport…small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or io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k Transport…large or solid clump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 (endo means ins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 (exo means outs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Transport through the membrane"/>
          <p:cNvPicPr/>
          <p:nvPr/>
        </p:nvPicPr>
        <p:blipFill>
          <a:blip r:embed="rId1"/>
          <a:stretch/>
        </p:blipFill>
        <p:spPr>
          <a:xfrm>
            <a:off x="762120" y="838080"/>
            <a:ext cx="3886200" cy="2914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-152280" y="55627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Lets see it in 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1143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in p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962160" y="1295280"/>
            <a:ext cx="16002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facdifan.gif - 30.3 K"/>
          <p:cNvPicPr/>
          <p:nvPr/>
        </p:nvPicPr>
        <p:blipFill>
          <a:blip r:embed="rId3"/>
          <a:stretch/>
        </p:blipFill>
        <p:spPr>
          <a:xfrm>
            <a:off x="4343400" y="3886200"/>
            <a:ext cx="441972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3:17:20Z</dcterms:created>
  <dc:creator>joconnor</dc:creator>
  <dc:description/>
  <dc:language>en-US</dc:language>
  <cp:lastModifiedBy>joconnor</cp:lastModifiedBy>
  <dcterms:modified xsi:type="dcterms:W3CDTF">2009-11-05T01:30:42Z</dcterms:modified>
  <cp:revision>16</cp:revision>
  <dc:subject/>
  <dc:title>Diffusion &amp; Osmosis</dc:title>
</cp:coreProperties>
</file>